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CE5-89D2-4023-8911-8CF1D8D5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78E-5A32-419F-A1E7-801262C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900-34F6-45B9-A0D8-2DECB80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6E2-4A98-481A-B63F-6E1E6F24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87A-93A4-4ABC-BBB9-1EB1180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39A-B091-45F9-8591-DEF190FD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E6F-28D5-464A-B20F-FE5EF71F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4F9-B582-4D62-8431-460108A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DBF-EFBC-4049-9CE8-E3D05648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36D-126B-44D9-822E-2A2BE40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B12-1E35-4A0F-86B2-B73D4AE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B3D-2479-4520-8354-001E266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CCFD-3ED4-48DF-8B96-A7B1E67B5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 on Senses and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0" y="1959120"/>
          <a:ext cx="872172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9120"/>
                    <a:ext cx="8721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7"/>
          <p:cNvSpPr/>
          <p:nvPr/>
        </p:nvSpPr>
        <p:spPr>
          <a:xfrm>
            <a:off x="3295440" y="47498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161440" y="2895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312408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27432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77680" y="15238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350532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505320" y="16002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19240" y="12762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733920" y="2514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290480" y="22860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Rat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609480" y="1219320"/>
          <a:ext cx="80089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89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6"/>
          <p:cNvSpPr/>
          <p:nvPr/>
        </p:nvSpPr>
        <p:spPr>
          <a:xfrm rot="19003200">
            <a:off x="465120" y="55195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19193400">
            <a:off x="1650960" y="54860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8897600">
            <a:off x="2918160" y="54860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 rot="18997200">
            <a:off x="3891600" y="559512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8685800">
            <a:off x="5424120" y="54846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 rot="18636000">
            <a:off x="6668640" y="532260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7:37:36Z</dcterms:created>
  <dc:creator>pc</dc:creator>
  <dc:description/>
  <dc:language>en-US</dc:language>
  <cp:lastModifiedBy>msu-iit</cp:lastModifiedBy>
  <dcterms:modified xsi:type="dcterms:W3CDTF">2011-06-28T03:04:01Z</dcterms:modified>
  <cp:revision>83</cp:revision>
  <dc:subject/>
  <dc:title>Barriers to Communication</dc:title>
</cp:coreProperties>
</file>